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B1B1-0498-4D35-B34D-3F10E7EBF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44E-EF4A-4F70-9A24-80005CB4B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45C-4509-42F2-A621-927995F4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7AF-6070-4DBD-A337-16F5043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CE5-F628-44E1-9142-5A8BE160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349-4284-4B80-99CC-745D7A5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1AB-3D0C-489C-AB70-6F5B2F9A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DF4-8024-4286-9C76-3709702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36E-B241-494D-9559-ABBFABE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455-7007-4A1A-AECF-846345C5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179-24C6-4BA3-B9C6-D200961C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8CC-B64D-4222-90B7-ADE97FF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D1A-7507-4FD6-9950-076D9A1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FE0-3E2C-49B4-A348-ABEC63F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7694-860A-4F84-BB72-11600F3F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SC017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pplication of  Models in Beles Sub Basin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000"/>
            </a:br>
            <a:r>
              <a:rPr b="0" lang="en-US" sz="1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br>
              <a:rPr sz="4000"/>
            </a:br>
            <a:r>
              <a:rPr b="0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ges Berbero</a:t>
            </a:r>
            <a:br>
              <a:rPr sz="2200"/>
            </a:br>
            <a:br>
              <a:rPr sz="2200"/>
            </a:br>
            <a:r>
              <a:rPr b="0" lang="en-US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v 12,20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pplication of SWAT model in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data used  for SWAT model se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 data (1997- 2006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and max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 speed and relative humid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data, both daily and monthly data(1997-200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 cover and soi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 of Beles Bas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ydrometric stations used for SWAT model Calib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15" descr="Beles_flow.jpg"/>
          <p:cNvPicPr/>
          <p:nvPr/>
        </p:nvPicPr>
        <p:blipFill>
          <a:blip r:embed="rId1"/>
          <a:srcRect l="9935" t="17588" r="9708" b="6933"/>
          <a:stretch/>
        </p:blipFill>
        <p:spPr>
          <a:xfrm>
            <a:off x="1905120" y="1523880"/>
            <a:ext cx="5333760" cy="5029200"/>
          </a:xfrm>
          <a:prstGeom prst="rect">
            <a:avLst/>
          </a:prstGeom>
          <a:ln w="0">
            <a:noFill/>
          </a:ln>
        </p:spPr>
      </p:pic>
      <p:cxnSp>
        <p:nvCxnSpPr>
          <p:cNvPr id="90" name="Straight Arrow Connector 5"/>
          <p:cNvCxnSpPr/>
          <p:nvPr/>
        </p:nvCxnSpPr>
        <p:spPr>
          <a:xfrm>
            <a:off x="3886200" y="2590920"/>
            <a:ext cx="1296000" cy="1372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Straight Arrow Connector 6"/>
          <p:cNvCxnSpPr/>
          <p:nvPr/>
        </p:nvCxnSpPr>
        <p:spPr>
          <a:xfrm flipH="1" flipV="1">
            <a:off x="5181120" y="4114080"/>
            <a:ext cx="190584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TextBox 9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Beles at B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6095880" y="5334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.Beles near Mand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11"/>
          <p:cNvCxnSpPr/>
          <p:nvPr/>
        </p:nvCxnSpPr>
        <p:spPr>
          <a:xfrm>
            <a:off x="1370520" y="3733560"/>
            <a:ext cx="762840" cy="99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TextBox 13"/>
          <p:cNvSpPr/>
          <p:nvPr/>
        </p:nvSpPr>
        <p:spPr>
          <a:xfrm>
            <a:off x="30492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et of Beles to Abb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etreological stations used for SWAT model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Beles_Gauging.jpg"/>
          <p:cNvPicPr/>
          <p:nvPr/>
        </p:nvPicPr>
        <p:blipFill>
          <a:blip r:embed="rId1"/>
          <a:srcRect l="9699" t="8214" r="10361" b="7402"/>
          <a:stretch/>
        </p:blipFill>
        <p:spPr>
          <a:xfrm>
            <a:off x="1447920" y="1523880"/>
            <a:ext cx="6019560" cy="502920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"/>
          <p:cNvCxnSpPr/>
          <p:nvPr/>
        </p:nvCxnSpPr>
        <p:spPr>
          <a:xfrm>
            <a:off x="1523880" y="2971800"/>
            <a:ext cx="153360" cy="991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9" name="TextBox 6"/>
          <p:cNvSpPr/>
          <p:nvPr/>
        </p:nvSpPr>
        <p:spPr>
          <a:xfrm>
            <a:off x="6094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kush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8"/>
          <p:cNvCxnSpPr/>
          <p:nvPr/>
        </p:nvCxnSpPr>
        <p:spPr>
          <a:xfrm flipH="1" flipV="1">
            <a:off x="4494960" y="5257440"/>
            <a:ext cx="83916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TextBox 10"/>
          <p:cNvSpPr/>
          <p:nvPr/>
        </p:nvSpPr>
        <p:spPr>
          <a:xfrm>
            <a:off x="4648320" y="5562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llen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 flipV="1">
            <a:off x="5714640" y="4647960"/>
            <a:ext cx="83880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63244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gni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4"/>
          <p:cNvCxnSpPr/>
          <p:nvPr/>
        </p:nvCxnSpPr>
        <p:spPr>
          <a:xfrm flipH="1" flipV="1">
            <a:off x="6857640" y="3962160"/>
            <a:ext cx="991440" cy="30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TextBox 16"/>
          <p:cNvSpPr/>
          <p:nvPr/>
        </p:nvSpPr>
        <p:spPr>
          <a:xfrm>
            <a:off x="708660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gil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17"/>
          <p:cNvCxnSpPr/>
          <p:nvPr/>
        </p:nvCxnSpPr>
        <p:spPr>
          <a:xfrm>
            <a:off x="4113720" y="3200400"/>
            <a:ext cx="153000" cy="991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TextBox 18"/>
          <p:cNvSpPr/>
          <p:nvPr/>
        </p:nvSpPr>
        <p:spPr>
          <a:xfrm>
            <a:off x="33526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we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9"/>
          <p:cNvCxnSpPr/>
          <p:nvPr/>
        </p:nvCxnSpPr>
        <p:spPr>
          <a:xfrm>
            <a:off x="5943600" y="2438280"/>
            <a:ext cx="9914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TextBox 21"/>
          <p:cNvSpPr/>
          <p:nvPr/>
        </p:nvSpPr>
        <p:spPr>
          <a:xfrm>
            <a:off x="5105520" y="2133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hur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traight Arrow Connector 22"/>
          <p:cNvCxnSpPr/>
          <p:nvPr/>
        </p:nvCxnSpPr>
        <p:spPr>
          <a:xfrm flipH="1" flipV="1">
            <a:off x="7466760" y="2742480"/>
            <a:ext cx="305640" cy="30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TextBox 24"/>
          <p:cNvSpPr/>
          <p:nvPr/>
        </p:nvSpPr>
        <p:spPr>
          <a:xfrm>
            <a:off x="708660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nzel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oil classification of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oil_classification.jpg"/>
          <p:cNvPicPr/>
          <p:nvPr/>
        </p:nvPicPr>
        <p:blipFill>
          <a:blip r:embed="rId1"/>
          <a:srcRect l="12677" t="17187" r="9861" b="7813"/>
          <a:stretch/>
        </p:blipFill>
        <p:spPr>
          <a:xfrm>
            <a:off x="2057400" y="160020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and cover of the Beles Sub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Landcover.jpg"/>
          <p:cNvPicPr/>
          <p:nvPr/>
        </p:nvPicPr>
        <p:blipFill>
          <a:blip r:embed="rId1"/>
          <a:srcRect l="10783" t="15154" r="10783" b="7402"/>
          <a:stretch/>
        </p:blipFill>
        <p:spPr>
          <a:xfrm>
            <a:off x="1600200" y="1676520"/>
            <a:ext cx="57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ydrologic response unit of the Basin(HR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HRU.jpg"/>
          <p:cNvPicPr/>
          <p:nvPr/>
        </p:nvPicPr>
        <p:blipFill>
          <a:blip r:embed="rId1"/>
          <a:srcRect l="10783" t="15154" r="10783" b="7402"/>
          <a:stretch/>
        </p:blipFill>
        <p:spPr>
          <a:xfrm>
            <a:off x="1447920" y="14479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ample calibration results for Main Beles at the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Document_flow8.jpg"/>
          <p:cNvPicPr/>
          <p:nvPr/>
        </p:nvPicPr>
        <p:blipFill>
          <a:blip r:embed="rId1"/>
          <a:stretch/>
        </p:blipFill>
        <p:spPr>
          <a:xfrm>
            <a:off x="784080" y="1600200"/>
            <a:ext cx="7651800" cy="495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alibration results for Gilgel Beles near to Mand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Document_flow13.jpg"/>
          <p:cNvPicPr/>
          <p:nvPr/>
        </p:nvPicPr>
        <p:blipFill>
          <a:blip r:embed="rId1"/>
          <a:stretch/>
        </p:blipFill>
        <p:spPr>
          <a:xfrm>
            <a:off x="1076400" y="1600200"/>
            <a:ext cx="69912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1905120" y="2606760"/>
            <a:ext cx="7617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hallenges of modeling work in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sting metreological stations within the Basin are not uniformly distribut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sting hydrometric flow measurements did not cover all the catchment area of Beles Bas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Beles at Bridge gauging station( 3482.4 K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l Beles near to Mandura gauging station(736.6K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detail soil and land cover map of the Bas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low and weather  data are full of missing da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Thank you very much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of Beles Sub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Beles Sub Basin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models in the Beles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use models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SWAT model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modeling work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Sub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rth-west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count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st, North-East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with Amhara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s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rth-West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with BG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New Beles Sub-Basin Spatial Setting_A3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vers total catchment area of 14,209 Km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chment area includes some parts of two regional stat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ub Basin lies in Amhara regional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%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ub Basin lies in Benishangul Gumuz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nual areal rainfall is 1476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verage annual run-off is around 4,900 million m3(SMEC,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pulation within the basin is 372,4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unctions of Beles Sub Basin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ng as an institutional focal point for water resources allocation and management in Beles Sub Bas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 repository of the official knowledge base for water resources management data and information in the sub-basin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Functions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n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taking research and special studies as required for effective water resources planning and manage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he analytical/modeling expertise and tools to effectively manage the water resources of the sub-basi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water resources of Beles Sub-Basi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Why models in the Beles Bas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6" descr="Beles_flow.jpg"/>
          <p:cNvPicPr/>
          <p:nvPr/>
        </p:nvPicPr>
        <p:blipFill>
          <a:blip r:embed="rId1"/>
          <a:srcRect l="10097" t="18336" r="10097" b="6668"/>
          <a:stretch/>
        </p:blipFill>
        <p:spPr>
          <a:xfrm>
            <a:off x="609480" y="1447920"/>
            <a:ext cx="419112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79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both surface and groundwater availability within the sub basin (SWAT and MODFLOW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allocation and planning within the basin for different needs or demands( WEAP or MIKEBASIN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8"/>
          <p:cNvCxnSpPr/>
          <p:nvPr/>
        </p:nvCxnSpPr>
        <p:spPr>
          <a:xfrm>
            <a:off x="2437200" y="2895120"/>
            <a:ext cx="762840" cy="83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TextBox 10"/>
          <p:cNvSpPr/>
          <p:nvPr/>
        </p:nvSpPr>
        <p:spPr>
          <a:xfrm>
            <a:off x="1066680" y="2666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Beles at B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12"/>
          <p:cNvCxnSpPr/>
          <p:nvPr/>
        </p:nvCxnSpPr>
        <p:spPr>
          <a:xfrm flipH="1" flipV="1">
            <a:off x="3199680" y="3809520"/>
            <a:ext cx="305640" cy="106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TextBox 15"/>
          <p:cNvSpPr/>
          <p:nvPr/>
        </p:nvSpPr>
        <p:spPr>
          <a:xfrm>
            <a:off x="266688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.Beles at Mand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How to use model out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5"/>
          <p:cNvSpPr/>
          <p:nvPr/>
        </p:nvSpPr>
        <p:spPr>
          <a:xfrm>
            <a:off x="0" y="2286000"/>
            <a:ext cx="3276720" cy="396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Beles_Gauging.jpg"/>
          <p:cNvPicPr/>
          <p:nvPr/>
        </p:nvPicPr>
        <p:blipFill>
          <a:blip r:embed="rId1"/>
          <a:srcRect l="12956" t="10098" r="10780" b="7404"/>
          <a:stretch/>
        </p:blipFill>
        <p:spPr>
          <a:xfrm>
            <a:off x="685800" y="32004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les Water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>
            <a:off x="3276360" y="3962520"/>
            <a:ext cx="686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" name="Oval 10"/>
          <p:cNvSpPr/>
          <p:nvPr/>
        </p:nvSpPr>
        <p:spPr>
          <a:xfrm>
            <a:off x="6781680" y="2819520"/>
            <a:ext cx="19051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r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6629400" y="4724280"/>
            <a:ext cx="2209680" cy="99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Supp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me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6705720" y="3809880"/>
            <a:ext cx="205740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dro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6629400" y="1828800"/>
            <a:ext cx="18288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uris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6781680" y="5715000"/>
            <a:ext cx="19814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27"/>
          <p:cNvCxnSpPr/>
          <p:nvPr/>
        </p:nvCxnSpPr>
        <p:spPr>
          <a:xfrm>
            <a:off x="5638320" y="2437920"/>
            <a:ext cx="114372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1" name="Straight Arrow Connector 30"/>
          <p:cNvCxnSpPr>
            <a:endCxn id="75" idx="2"/>
          </p:cNvCxnSpPr>
          <p:nvPr/>
        </p:nvCxnSpPr>
        <p:spPr>
          <a:xfrm>
            <a:off x="5486400" y="3276720"/>
            <a:ext cx="12960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Rectangle 26"/>
          <p:cNvSpPr/>
          <p:nvPr/>
        </p:nvSpPr>
        <p:spPr>
          <a:xfrm>
            <a:off x="3962520" y="2362320"/>
            <a:ext cx="1676160" cy="3886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Resources allocation model(WEAP, Mike Bas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40"/>
          <p:cNvCxnSpPr>
            <a:endCxn id="77" idx="2"/>
          </p:cNvCxnSpPr>
          <p:nvPr/>
        </p:nvCxnSpPr>
        <p:spPr>
          <a:xfrm>
            <a:off x="5562360" y="4191120"/>
            <a:ext cx="114372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Straight Arrow Connector 45"/>
          <p:cNvCxnSpPr>
            <a:endCxn id="76" idx="2"/>
          </p:cNvCxnSpPr>
          <p:nvPr/>
        </p:nvCxnSpPr>
        <p:spPr>
          <a:xfrm>
            <a:off x="5638680" y="5181480"/>
            <a:ext cx="99144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Straight Arrow Connector 47"/>
          <p:cNvCxnSpPr/>
          <p:nvPr/>
        </p:nvCxnSpPr>
        <p:spPr>
          <a:xfrm>
            <a:off x="5638320" y="6095520"/>
            <a:ext cx="122004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7:20:43Z</dcterms:created>
  <dc:creator>user</dc:creator>
  <dc:description/>
  <dc:language>en-US</dc:language>
  <cp:lastModifiedBy>LeBorgne, Ewen (ILRI)</cp:lastModifiedBy>
  <dcterms:modified xsi:type="dcterms:W3CDTF">2012-11-13T06:24:16Z</dcterms:modified>
  <cp:revision>48</cp:revision>
  <dc:subject/>
  <dc:title>Presentation on water Modeling application  by  Moges Berbero</dc:title>
</cp:coreProperties>
</file>